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5FE-918E-4BAF-8CBA-C56E360D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2FD-E9EF-40AD-980A-E2C330C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22A-4860-4836-93E9-851386DC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9A6-7378-4C68-A1CF-76965BD5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BED3-3981-4507-A957-09497DD1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0484-02C4-4143-9009-92F261AD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1CC3-AD3C-4F9E-A73F-20EF3D24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5A3A-C5CA-4D47-A345-CB5C598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386-FC57-46A2-A4FF-C8AE019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B78F-84A6-4F8A-8648-29B9A064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A0FB-7667-440E-AD7F-DF5B1118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73B-A49F-4E78-B446-F2B77DFF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A7B-FB35-47E3-8922-BDC7427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6D8B-C227-48D1-A568-CB2BD84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1F4A-58A4-459F-B83B-B616B9FF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6D6-E69A-4783-A7D4-CDCAA439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81D-AEE4-42BE-A38A-3FDA1DB6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BD9-EF29-4F79-B1B7-6FFD3A9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78-4BC5-4E1A-B57C-74527E9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647-0C01-42D0-8B66-1A683D9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BB4-F8BC-4101-A5FB-519830DA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1A4-DF31-4A6E-B7CA-A61C76C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71E-A9CD-471A-B5CD-8CD5896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0F8-74D9-4F0B-97E4-6E03664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136-52D9-42CE-B6C3-7348A1F4D7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8A6-D10D-46DF-8FDD-EED04E0E00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5.3: Big Business Emer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The Rise of Big Busi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rpo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ganization owned by many people but treated by law as though it were a per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to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who own the corporation because they are shareholders.  Each share is called a stock.  Helps minimize risk for owner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st of manufacturing is decreased by producing goods quickly in large quant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.   </a:t>
            </a: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Monopo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ompany that has complete control over a produ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solidating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  Too much competition = p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pool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companies that agree to keep prices at a certain level; it’s illeg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Picture 10" descr="gd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84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41_Pepsi_20oz"/>
          <p:cNvPicPr/>
          <p:nvPr/>
        </p:nvPicPr>
        <p:blipFill>
          <a:blip r:embed="rId2"/>
          <a:stretch/>
        </p:blipFill>
        <p:spPr>
          <a:xfrm>
            <a:off x="7391520" y="4495680"/>
            <a:ext cx="8017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oca-cola freestyle(r)"/>
          <p:cNvPicPr/>
          <p:nvPr/>
        </p:nvPicPr>
        <p:blipFill>
          <a:blip r:embed="rId3"/>
          <a:stretch/>
        </p:blipFill>
        <p:spPr>
          <a:xfrm>
            <a:off x="4495680" y="4952880"/>
            <a:ext cx="2048040" cy="113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Rccolauslogo.jpg"/>
          <p:cNvPicPr/>
          <p:nvPr/>
        </p:nvPicPr>
        <p:blipFill>
          <a:blip r:embed="rId4"/>
          <a:stretch/>
        </p:blipFill>
        <p:spPr>
          <a:xfrm>
            <a:off x="1523880" y="4419720"/>
            <a:ext cx="2381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2.  Andrew Carnegi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“Man of Steel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.  Management techniq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.  Hired talented work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ffered stoc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mpetition = increased production/lower cos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i.  Better products cheap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.  “Winning”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.  Vertical integr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.   Buy out all of your supplie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.  Control quality and cos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3" descr="Formal portrait of Andrew Carnegie standing and leaning on the back of a leather chair. "/>
          <p:cNvPicPr/>
          <p:nvPr/>
        </p:nvPicPr>
        <p:blipFill>
          <a:blip r:embed="rId1"/>
          <a:stretch/>
        </p:blipFill>
        <p:spPr>
          <a:xfrm>
            <a:off x="5486400" y="2286000"/>
            <a:ext cx="3306600" cy="384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IN00483_"/>
          <p:cNvPicPr/>
          <p:nvPr/>
        </p:nvPicPr>
        <p:blipFill>
          <a:blip r:embed="rId2"/>
          <a:stretch/>
        </p:blipFill>
        <p:spPr>
          <a:xfrm>
            <a:off x="6934320" y="152280"/>
            <a:ext cx="1746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533160"/>
            <a:ext cx="3810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cago, 188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3 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8840" y="4568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bai, 200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,717 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Picture 7" descr="2"/>
          <p:cNvPicPr/>
          <p:nvPr/>
        </p:nvPicPr>
        <p:blipFill>
          <a:blip r:embed="rId1"/>
          <a:stretch/>
        </p:blipFill>
        <p:spPr>
          <a:xfrm>
            <a:off x="1566720" y="1012680"/>
            <a:ext cx="3065760" cy="500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upload.wikimedia.org/wikipedia/en/thumb/2/2f/Burj_Khalifa_building.jpg/180px-Burj_Khalifa_building.jpg"/>
          <p:cNvPicPr/>
          <p:nvPr/>
        </p:nvPicPr>
        <p:blipFill>
          <a:blip r:embed="rId2"/>
          <a:stretch/>
        </p:blipFill>
        <p:spPr>
          <a:xfrm>
            <a:off x="5181480" y="1050840"/>
            <a:ext cx="33354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3.  John D. “Slick” Rockefeller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 Oil Compan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wned 90% of refining busi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eated employees poor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ything goes”/bend the r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ning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rizontal consolid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spcBef>
                <a:spcPts val="400"/>
              </a:spcBef>
              <a:buClr>
                <a:srgbClr val="0099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rging of companies with similar products; oil compani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Picture 5" descr=" "/>
          <p:cNvPicPr/>
          <p:nvPr/>
        </p:nvPicPr>
        <p:blipFill>
          <a:blip r:embed="rId1"/>
          <a:stretch/>
        </p:blipFill>
        <p:spPr>
          <a:xfrm>
            <a:off x="4896000" y="1905120"/>
            <a:ext cx="42480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Consolidating Busines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 Monopo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mpany that has complete control over a produ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vantag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341280" y="169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979560" y="1698480"/>
            <a:ext cx="6500880" cy="360"/>
            <a:chOff x="979560" y="1698480"/>
            <a:chExt cx="6500880" cy="360"/>
          </a:xfrm>
        </p:grpSpPr>
        <p:sp>
          <p:nvSpPr>
            <p:cNvPr id="130" name="Rectangle 7"/>
            <p:cNvSpPr/>
            <p:nvPr/>
          </p:nvSpPr>
          <p:spPr>
            <a:xfrm>
              <a:off x="979560" y="1698480"/>
              <a:ext cx="6500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31" name="Group 8"/>
            <p:cNvGrpSpPr/>
            <p:nvPr/>
          </p:nvGrpSpPr>
          <p:grpSpPr>
            <a:xfrm>
              <a:off x="979560" y="1698480"/>
              <a:ext cx="6500880" cy="360"/>
              <a:chOff x="979560" y="1698480"/>
              <a:chExt cx="6500880" cy="3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979560" y="1698480"/>
                <a:ext cx="650088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979560" y="1698480"/>
                <a:ext cx="6500880" cy="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34" name="Group 17"/>
          <p:cNvGrpSpPr/>
          <p:nvPr/>
        </p:nvGrpSpPr>
        <p:grpSpPr>
          <a:xfrm>
            <a:off x="2209680" y="1371600"/>
            <a:ext cx="6934320" cy="6433920"/>
            <a:chOff x="2209680" y="1371600"/>
            <a:chExt cx="6934320" cy="6433920"/>
          </a:xfrm>
        </p:grpSpPr>
        <p:sp>
          <p:nvSpPr>
            <p:cNvPr id="135" name="Rectangle 18"/>
            <p:cNvSpPr/>
            <p:nvPr/>
          </p:nvSpPr>
          <p:spPr>
            <a:xfrm>
              <a:off x="2209680" y="137160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2209680" y="1371600"/>
              <a:ext cx="4416840" cy="64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344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7" name="Picture 20" descr="Monopoly board"/>
          <p:cNvPicPr/>
          <p:nvPr/>
        </p:nvPicPr>
        <p:blipFill>
          <a:blip r:embed="rId1"/>
          <a:stretch/>
        </p:blipFill>
        <p:spPr>
          <a:xfrm>
            <a:off x="1981080" y="3648240"/>
            <a:ext cx="3216240" cy="3209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1"/>
          <p:cNvSpPr/>
          <p:nvPr/>
        </p:nvSpPr>
        <p:spPr>
          <a:xfrm>
            <a:off x="3003480" y="2092320"/>
            <a:ext cx="839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9" name="Picture 22" descr="Mr. Monopoly will be offering some new landmarks and  more money."/>
          <p:cNvPicPr/>
          <p:nvPr/>
        </p:nvPicPr>
        <p:blipFill>
          <a:blip r:embed="rId2"/>
          <a:stretch/>
        </p:blipFill>
        <p:spPr>
          <a:xfrm>
            <a:off x="5867280" y="3124080"/>
            <a:ext cx="25146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5.  Selling the Produ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yer and 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dvertising agenc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ictures included not just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owth of department stores – Marshall Fiel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in stores – i.e Woolworth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ars and Montgomery Wards catalo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Picture 5" descr="universalrangelarge"/>
          <p:cNvPicPr/>
          <p:nvPr/>
        </p:nvPicPr>
        <p:blipFill>
          <a:blip r:embed="rId1"/>
          <a:stretch/>
        </p:blipFill>
        <p:spPr>
          <a:xfrm>
            <a:off x="6019920" y="1447920"/>
            <a:ext cx="264780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5638680" y="4648320"/>
            <a:ext cx="3505320" cy="2209680"/>
            <a:chOff x="5638680" y="4648320"/>
            <a:chExt cx="3505320" cy="2209680"/>
          </a:xfrm>
        </p:grpSpPr>
        <p:sp>
          <p:nvSpPr>
            <p:cNvPr id="145" name="Rectangle 7"/>
            <p:cNvSpPr/>
            <p:nvPr/>
          </p:nvSpPr>
          <p:spPr>
            <a:xfrm>
              <a:off x="5638680" y="4648320"/>
              <a:ext cx="3505320" cy="22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46" name="Group 8"/>
            <p:cNvGrpSpPr/>
            <p:nvPr/>
          </p:nvGrpSpPr>
          <p:grpSpPr>
            <a:xfrm>
              <a:off x="5638680" y="4648320"/>
              <a:ext cx="3505320" cy="2209680"/>
              <a:chOff x="5638680" y="4648320"/>
              <a:chExt cx="3505320" cy="2209680"/>
            </a:xfrm>
          </p:grpSpPr>
          <p:sp>
            <p:nvSpPr>
              <p:cNvPr id="147" name="Rectangle 9"/>
              <p:cNvSpPr/>
              <p:nvPr/>
            </p:nvSpPr>
            <p:spPr>
              <a:xfrm>
                <a:off x="5638680" y="4648320"/>
                <a:ext cx="35053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grpSp>
            <p:nvGrpSpPr>
              <p:cNvPr id="148" name="Group 10"/>
              <p:cNvGrpSpPr/>
              <p:nvPr/>
            </p:nvGrpSpPr>
            <p:grpSpPr>
              <a:xfrm>
                <a:off x="5638680" y="4648320"/>
                <a:ext cx="3156120" cy="2209680"/>
                <a:chOff x="5638680" y="4648320"/>
                <a:chExt cx="3156120" cy="2209680"/>
              </a:xfrm>
            </p:grpSpPr>
            <p:sp>
              <p:nvSpPr>
                <p:cNvPr id="149" name="Rectangle 11"/>
                <p:cNvSpPr/>
                <p:nvPr/>
              </p:nvSpPr>
              <p:spPr>
                <a:xfrm>
                  <a:off x="5648400" y="465840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grpSp>
              <p:nvGrpSpPr>
                <p:cNvPr id="150" name="Group 12"/>
                <p:cNvGrpSpPr/>
                <p:nvPr/>
              </p:nvGrpSpPr>
              <p:grpSpPr>
                <a:xfrm>
                  <a:off x="5638680" y="4648320"/>
                  <a:ext cx="3156120" cy="2209680"/>
                  <a:chOff x="5638680" y="4648320"/>
                  <a:chExt cx="3156120" cy="2209680"/>
                </a:xfrm>
              </p:grpSpPr>
              <p:grpSp>
                <p:nvGrpSpPr>
                  <p:cNvPr id="151" name="Group 13"/>
                  <p:cNvGrpSpPr/>
                  <p:nvPr/>
                </p:nvGrpSpPr>
                <p:grpSpPr>
                  <a:xfrm>
                    <a:off x="5648400" y="4658400"/>
                    <a:ext cx="3136320" cy="2189520"/>
                    <a:chOff x="5648400" y="4658400"/>
                    <a:chExt cx="3136320" cy="2189520"/>
                  </a:xfrm>
                </p:grpSpPr>
                <p:sp>
                  <p:nvSpPr>
                    <p:cNvPr id="152" name="Rectangle 14"/>
                    <p:cNvSpPr/>
                    <p:nvPr/>
                  </p:nvSpPr>
                  <p:spPr>
                    <a:xfrm>
                      <a:off x="5648400" y="4658400"/>
                      <a:ext cx="3136320" cy="2189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9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53" name="Rectangle 15"/>
                    <p:cNvSpPr/>
                    <p:nvPr/>
                  </p:nvSpPr>
                  <p:spPr>
                    <a:xfrm>
                      <a:off x="5648400" y="4658400"/>
                      <a:ext cx="3136320" cy="2189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54" name="Rectangle 16"/>
                  <p:cNvSpPr/>
                  <p:nvPr/>
                </p:nvSpPr>
                <p:spPr>
                  <a:xfrm>
                    <a:off x="5638680" y="4648320"/>
                    <a:ext cx="3156120" cy="220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270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Arial Narrow"/>
                    </a:endParaRPr>
                  </a:p>
                </p:txBody>
              </p:sp>
            </p:grpSp>
          </p:grpSp>
        </p:grpSp>
      </p:grpSp>
      <p:pic>
        <p:nvPicPr>
          <p:cNvPr id="155" name="Picture 17" descr="Kodak_ad_1888"/>
          <p:cNvPicPr/>
          <p:nvPr/>
        </p:nvPicPr>
        <p:blipFill>
          <a:blip r:embed="rId2"/>
          <a:stretch/>
        </p:blipFill>
        <p:spPr>
          <a:xfrm>
            <a:off x="6248520" y="4724280"/>
            <a:ext cx="24987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57" name="Picture 3" descr="red_bus_isometric"/>
          <p:cNvPicPr/>
          <p:nvPr/>
        </p:nvPicPr>
        <p:blipFill>
          <a:blip r:embed="rId1"/>
          <a:stretch/>
        </p:blipFill>
        <p:spPr>
          <a:xfrm>
            <a:off x="3276720" y="152280"/>
            <a:ext cx="5715000" cy="38750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-22320" y="1828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5" descr="02yahoo"/>
          <p:cNvPicPr/>
          <p:nvPr/>
        </p:nvPicPr>
        <p:blipFill>
          <a:blip r:embed="rId2"/>
          <a:stretch/>
        </p:blipFill>
        <p:spPr>
          <a:xfrm>
            <a:off x="2286000" y="3535200"/>
            <a:ext cx="6629400" cy="3094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PC Creative"/>
          <p:cNvPicPr/>
          <p:nvPr/>
        </p:nvPicPr>
        <p:blipFill>
          <a:blip r:embed="rId3"/>
          <a:stretch/>
        </p:blipFill>
        <p:spPr>
          <a:xfrm>
            <a:off x="1295280" y="533520"/>
            <a:ext cx="295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0-16T21:50:10Z</dcterms:modified>
  <cp:revision>15</cp:revision>
  <dc:subject/>
  <dc:title>PowerPoint Presentation</dc:title>
</cp:coreProperties>
</file>